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ABF-8AA7-4ADD-A6CC-BDDB338C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5C7-35F4-4A95-B6A5-DE0A86AB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E0A-B73A-40D5-A75F-00F7CFA4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469-4E6B-4D91-90EB-AFEFBC4F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F10-533C-4930-AF68-FA5910D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331-F541-4306-8C9C-25FF7949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26B-B8D8-4795-BDF5-5F453C8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11B-E342-46E5-B1C8-877C1342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27F-20B8-467D-B484-73F98C55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2B5-363F-4053-AFCC-FB32CA4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14A-BC17-4863-BED1-3107957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5FF-DF85-49C8-93D6-70ED45E5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76D-1D21-4F85-B102-CD6360B285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aracter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riters think about what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ir characters want.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s is related to the problem in the story.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r example, the </a:t>
            </a:r>
            <a:r>
              <a:rPr b="0" i="1" lang="en-US" sz="3200" spc="-1" strike="noStrike">
                <a:solidFill>
                  <a:srgbClr val="dfd293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is that the bully is beating up the character.  The character </a:t>
            </a:r>
            <a:r>
              <a:rPr b="0" i="1" lang="en-US" sz="3200" spc="-1" strike="noStrike">
                <a:solidFill>
                  <a:srgbClr val="dfd293"/>
                </a:solidFill>
                <a:latin typeface="Arial"/>
              </a:rPr>
              <a:t>wants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the bully to stop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character wants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ne thing more than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nything else in the world.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t doesn’t have to be something big or special that anyone else would want.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t could be something about which only your character cares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t’s think about characters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n our picture books.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did the main character want more than anything?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Let’s make a list of things that the characters wanted in books that we’ve read together. 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ink about your character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motivates your character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might your character want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problem does your character want to solve?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day, in your Writer’s Notebook, make a list of things your character might want or problems your character might want to resolve. 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5:47:47Z</dcterms:created>
  <dc:creator>AAPS</dc:creator>
  <dc:description/>
  <dc:language>en-US</dc:language>
  <cp:lastModifiedBy>Carrie Dworkin</cp:lastModifiedBy>
  <dcterms:modified xsi:type="dcterms:W3CDTF">2005-08-12T16:03:45Z</dcterms:modified>
  <cp:revision>3</cp:revision>
  <dc:subject/>
  <dc:title>Characters </dc:title>
</cp:coreProperties>
</file>